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BC0-E6D5-4BAE-A75D-68BBADBE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56E-AC63-4F02-B5C7-306D0EB4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3DF-0986-4DB0-BE24-8A678987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C5E-A419-4F06-8896-A13510CE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5A49-9D66-40B5-95D9-708C7294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4EF5-6D89-44CC-8F7F-609F0A4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0D50-CFFD-4335-809F-2363FDBE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B9B-0B1D-4111-BB72-F3D56FA0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FF9D-3C92-48EC-A410-6546FCD0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866-AD50-4F2E-909E-67D8B5F8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480-65D0-4F91-8976-598C69D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6FE-EA79-4380-B6C8-FAEBDFD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65D-B6BF-4D4C-A2CE-C13B516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C20-938D-43F7-B8D3-9EB1B5A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C957-72E7-49AB-A359-04ED424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C484-723B-4B0F-8C13-1E295A11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729-84F8-4F42-B476-6263F30B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3B7-E941-4595-95E7-46515D4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3AF-85FB-4446-8130-D91662E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1D8-27FE-4345-96C1-065256D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E39-73E7-4E30-982B-BE659A27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EFE-9E48-4DEA-9328-D3F1B7E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2D2-94E7-406D-90EE-6BB844F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533-B77F-4969-8A06-CF23382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9C8-9C40-4E47-BE97-C6DE9D45E3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B87-5D23-435B-9107-FA5A7C90E6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Garamond"/>
              </a:rPr>
              <a:t>Chapter 10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 – Parents &amp; Childbearing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stage that brings about more profound change or challenge to the nuclear and extended family than the addition of a new child to the family system” (Holloway, 2003, p.3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Normative 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n event that occurs naturally in the course of a person’s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is stage the couple must alter their relationship as a couple to make room for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Couple  Clip Art"/>
          <p:cNvPicPr/>
          <p:nvPr/>
        </p:nvPicPr>
        <p:blipFill>
          <a:blip r:embed="rId1"/>
          <a:stretch/>
        </p:blipFill>
        <p:spPr>
          <a:xfrm>
            <a:off x="3429000" y="4419720"/>
            <a:ext cx="221616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who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ec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ttachment may remai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ly and emotionally underdevelopment into adulthoo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have difficulty with trust, empathy, self-esteem &amp; successful relationships for the rest of their liv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nsitivity to children’s needs may cause some areas of the brain to overdevelop, which leads 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nse rag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xiet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ulsiven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isposition to violen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4655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al Ro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generations reli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m disciplinary pract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questioning obed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ir children due to the difficult times in which they 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parents use a more democratic strategy in pare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ommunication between parent &amp; chi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s of affection are the n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ing Sty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th Americans value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 individualis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depend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has led to parents raising their children to become mo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dependent and self-reli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rather than focusing on family ties and commitments to the larger famil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contrast, in other cultures families encourage co-operation, sharing, reciprocity, obligation, and interdependence of the larger family and kinship net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milies develop a shared view of the world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family inside &amp; outside of family boundaries is organ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embers relate to one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family treats the environment surround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ing Sty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views change over time by new outside factor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social or work experiences, family cri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ly held view is that families have a direct impact on parenting and parent-child relationships (ex. parents who value career and work success highly place a different value on family time and time with their individual children than those who place less value on work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e Types of Parenting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ative Parenting – focus on warmth, support, acceptance, and indirect positive control of th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arian Parenting – more parental control and use of reward &amp; pu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ve Parenting – few rules &amp; the children control family situ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 Closer Look at these 3 Types of Parenting Style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raised b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uthoritati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parents a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etter adjusted psychologically and have a better self-concep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raised b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uthoritari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ents use more physical punishment, which has been shown to negatively affect the child’s adjustment, especially if severe &amp; frequent. These children feel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jec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their  parents &amp; have more problems with psychological adjust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raised b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ermissive parent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nd to be mo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rresponsible, impulsive and imma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They might also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lighty, anxious &amp; emotionally impoverish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mum parenting is a balance between over-control and permissiven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Key Questions Emerge for Parent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 child be cared f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oles will they play as primary caregi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else will be included in the child ca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y divide the new roles and responsibilities (discipline,  household task, etc.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2419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 Closer Look at these 3 Types of Parenting Style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that inhibit parents from showing the consistent warmth, support and effective discipline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conomic hardshi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rital confli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flic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ween spous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arding parenting sty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ree greatest challen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parents is to balance between these three issues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scipli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unish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uid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bara Coloroso’s Parenting Sty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book – pg 32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ck Wa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llyfis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hood Within the Larger Societ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enting / socialization within the larger society extends 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ighbourhoods, extended family, ethnic background, work situations, social networks, socio-economics, siblings, aunts &amp; uncles, peers, teachers, athletes, celebrities and so o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ference Grou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groups of people with whom one identifi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might become part of a team or club or want to be part of a team (ex. Favourite NHL Team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who are new immigrants might take on the values of a new country sooner than the adults do (can create conflict with parent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Changing Family Struct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clear that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ercentag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f childre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ving in lone-par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amilies a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creas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while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g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 which they do so 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creas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der plays an important role in parental involve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ath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regardless of where they live,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end to be less involv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ith their children than mothers ar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ivorced fath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nd to see their children infrequently and their lack of contact increases over tim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born to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mmon-law un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hree tim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ore likely to have to deal with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ak-up of their parent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ystems theo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uggest that the removal of the father from the home affects the dynamics of the entire househo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nstructi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onflicts vs.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structi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onfli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s, Work &amp; Child Developmen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milies are now dual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 has a national funded maternity &amp; parental leave system that allows parents access to employment insurance to support staying home to care for inf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s Can shows that today’s parents spend less time with their children than any family surveyed in the past 60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cent survey suggests that what children want the most from their parent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ay, Maureen, Holloway,G., Witte, J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s and Families in a Diverse Societ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 Ryerson., Toro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velopmental Tas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new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up a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self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gotiate work/personal/family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 roles as primary 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gotiate househol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1873080"/>
            <a:ext cx="32004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nges that Come to Coup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in marital satisfaction – raising a child is very time consuming and lack of time together is the largest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temporary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ituation changes – new costs, short term (diapers) &amp; long term (tu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researchers Demo &amp; Cox (2000), the better your marriage is before kids, the more likely you’ll be good after k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371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relationship between mother &amp; chi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is defined as the behaviours that represent the need of the infant to attain and maintain proximity &amp; protection with an available &amp; responsive caregi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-child relationship is the foundation for personality growth, since the mother was the infant’s first love relationship &amp; the model for all future 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lationship with the mother was positive, the likelihood of successful relationship in their future was str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93348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t attachment to the primary caregiver, usually the mother, is seen to be essential for normal chil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k Eri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is a process that lasts a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stages of development – each involving a crisis brought on by the changing social sit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cy – trust versus mis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is developed when the infant's needs are met – depending on how well the quality of care the infant receiv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828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using strangers for infants between ages 6 to 24 months to test attachment to their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ger enters – securely attached infants heads for their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ger enters – insecurely attached infants will avoid or resist the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ies have found that fathers of secure infants were more extroverted and agreeable, had higher levels of self-esteem and marriages that were more posit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fathers had positive work and family boundar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thers that bond during pregnancy, tend to be more caring, nurturing, child-oriented and affection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103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s for “new” fath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rol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ociet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bysitting not par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ompetent dad j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ss understanding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ck of change tables in wa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have become more overloaded with life-work conflict than ever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3:56:51Z</dcterms:created>
  <dc:creator>OCDSB User</dc:creator>
  <dc:description/>
  <dc:language>en-US</dc:language>
  <cp:lastModifiedBy>OCDSB User</cp:lastModifiedBy>
  <dcterms:modified xsi:type="dcterms:W3CDTF">2011-05-25T12:53:07Z</dcterms:modified>
  <cp:revision>30</cp:revision>
  <dc:subject/>
  <dc:title>Chapter 10 – Parents &amp; Childbearing</dc:title>
</cp:coreProperties>
</file>